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E2140-3B31-40E8-9EC5-539988CEF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3E08D-4A44-48AD-AFCF-4396037CF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9BAE4-A446-4244-83ED-9BAF2A5DD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C2748-0A05-42B5-AED1-FFE6708E9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9BB64-9C78-42AE-900E-5D5339BCA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6E846-A6CE-4988-AC7C-38165183B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FF1B8-9126-48F2-A641-F3476262C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68EF1-F6F1-4F04-B538-90A56A4B2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61781-1D1A-4707-85FF-5B52005CF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17FFF-35E4-4B0A-A3B3-A551F0446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7B23D-723A-4DB8-8B7F-0517DA0D4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8E84B-637B-4004-9125-0D824E4D0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33EED-2C0B-4D7F-B2A4-3621983AC0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9900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6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Papyrus"/>
              </a:rPr>
              <a:t>Verbs!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0" y="396216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pyrus"/>
              </a:rPr>
              <a:t>By: Ally, Sydney, and Sym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77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" dur="77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8" dur="77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0" dur="77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ff"/>
            </a:gs>
            <a:gs pos="100000">
              <a:srgbClr val="ff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erlin Sans FB Demi"/>
              </a:rPr>
              <a:t>What do you need to learn from thi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erlin Sans FB Demi"/>
              </a:rPr>
              <a:t>You need to learn how to properly punctuate sent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erlin Sans FB Demi"/>
              </a:rPr>
              <a:t>You also need to know if and when characters move through out the sto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1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10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ff"/>
                </a:solidFill>
                <a:latin typeface="Snap ITC"/>
              </a:rPr>
              <a:t>Lesson Plan!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ff"/>
              </a:buClr>
              <a:buFont typeface="Pupca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ff"/>
                </a:solidFill>
                <a:latin typeface="Pupcat"/>
              </a:rPr>
              <a:t>Do now with objective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ff"/>
              </a:buClr>
              <a:buFont typeface="Pupca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ff"/>
                </a:solidFill>
                <a:latin typeface="Pupcat"/>
              </a:rPr>
              <a:t>Ask students to identify verbs in sent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ff"/>
              </a:buClr>
              <a:buFont typeface="Pupca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ff"/>
                </a:solidFill>
                <a:latin typeface="Pupcat"/>
              </a:rPr>
              <a:t>Ask students “what’s a verb?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ff"/>
              </a:buClr>
              <a:buFont typeface="Pupca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ff"/>
                </a:solidFill>
                <a:latin typeface="Pupcat"/>
              </a:rPr>
              <a:t>Help them make examples of a ver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ff"/>
              </a:buClr>
              <a:buFont typeface="Pupca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ff"/>
                </a:solidFill>
                <a:latin typeface="Pupcat"/>
              </a:rPr>
              <a:t>Give them at least 3 sentences with no verbs in it and ask them to put verbs in it to make it sound bet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ff"/>
              </a:buClr>
              <a:buFont typeface="Pupca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ff"/>
                </a:solidFill>
                <a:latin typeface="Pupcat"/>
              </a:rPr>
              <a:t>Ask them to make their own sentences with Verbs in it(5 sentences at the least</a:t>
            </a:r>
            <a:r>
              <a:rPr b="1" lang="en-US" sz="2400" spc="-1" strike="noStrike">
                <a:solidFill>
                  <a:srgbClr val="cc00ff"/>
                </a:solidFill>
                <a:latin typeface="Pupcat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ff"/>
                </a:solidFill>
                <a:latin typeface="Earwig Factory"/>
              </a:rPr>
              <a:t>Do Now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radley Hand ITC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Bradley Hand ITC"/>
              </a:rPr>
              <a:t>I can Identify Verbs to properly punctuate sentences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radley Hand ITC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Bradley Hand ITC"/>
              </a:rPr>
              <a:t>Which words in the sentences below show mov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radley Hand ITC"/>
              </a:rPr>
              <a:t>1. Cindy walked to the sto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radley Hand ITC"/>
              </a:rPr>
              <a:t>2. Todd drove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radley Hand ITC"/>
              </a:rPr>
              <a:t>3. The bike rolled down the hil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276720" y="5056200"/>
            <a:ext cx="1344600" cy="18018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5241960" y="4257720"/>
            <a:ext cx="3902040" cy="260028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Neuropol"/>
              </a:rPr>
              <a:t>What do you think is a verb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465120" y="5334120"/>
            <a:ext cx="1820880" cy="13413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533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t is a word that shows action or state of being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ction: run, swim, jump, taste, fall, dre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tate of being: be, appear, seem, fe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6" dur="20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1" dur="2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6" dur="2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77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2" dur="770" fill="hold"/>
                                        <p:tgtEl>
                                          <p:spTgt spid="4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4" dur="77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6" dur="77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0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ry to write juicy sentences without verb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w! What a great bik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umm.  Good food.  More cookies anywhe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how long can you live with frag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10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Boopee"/>
              </a:rPr>
              <a:t>Sentence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Boopee"/>
              </a:rPr>
              <a:t>The red car was driving down the stre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Boopee"/>
              </a:rPr>
              <a:t>The blue horse was jumping over the f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Boopee"/>
              </a:rPr>
              <a:t>I skid across the floo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Boopee"/>
              </a:rPr>
              <a:t>Lenny grabbed a pineapp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Boopee"/>
              </a:rPr>
              <a:t>The phone is ring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Boopee"/>
              </a:rPr>
              <a:t>The person on the floor crawled into the ca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urlz MT"/>
              </a:rPr>
              <a:t>Answ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Wingdings 2" charset="2"/>
              <a:buChar char="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Mufferaw"/>
              </a:rPr>
              <a:t>Dri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Wingdings 2" charset="2"/>
              <a:buChar char="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Mufferaw"/>
              </a:rPr>
              <a:t>Jump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Wingdings 2" charset="2"/>
              <a:buChar char="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Mufferaw"/>
              </a:rPr>
              <a:t>Ski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Wingdings 2" charset="2"/>
              <a:buChar char="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Mufferaw"/>
              </a:rPr>
              <a:t>Grabb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Wingdings 2" charset="2"/>
              <a:buChar char="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Mufferaw"/>
              </a:rPr>
              <a:t>Rin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Wingdings 2" charset="2"/>
              <a:buChar char="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Mufferaw"/>
              </a:rPr>
              <a:t>Crawl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3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8" dur="1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3" dur="10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8" dur="10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3" dur="10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8" dur="10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3" dur="1000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RAFT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gin drafting your narrative!  Use the graphic organizers from yesterday to guide your writing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doni MT Black"/>
              </a:rPr>
              <a:t>Read Independently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For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orte"/>
              </a:rPr>
              <a:t>Write down 5 action verbs on your index card as you re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For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orte"/>
              </a:rPr>
              <a:t>Turn in when you are don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lus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2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8" dur="8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9" dur="8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0" dur="8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7" dur="10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7517"/>
            </a:gs>
            <a:gs pos="50000">
              <a:srgbClr val="66ff33"/>
            </a:gs>
            <a:gs pos="100000">
              <a:srgbClr val="2f751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erlin Sans FB Demi"/>
              </a:rPr>
              <a:t>Essential Questio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erlin Sans FB Demi"/>
              </a:rPr>
              <a:t>How does knowing and using verbs make you a better read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4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9" dur="2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3T17:28:35Z</dcterms:created>
  <dc:creator>Parkway</dc:creator>
  <dc:description/>
  <dc:language>en-US</dc:language>
  <cp:lastModifiedBy>Administrator</cp:lastModifiedBy>
  <dcterms:modified xsi:type="dcterms:W3CDTF">2010-10-19T14:13:02Z</dcterms:modified>
  <cp:revision>9</cp:revision>
  <dc:subject/>
  <dc:title>Do Now</dc:title>
</cp:coreProperties>
</file>